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304A1-DDF3-4A17-8746-4D03929E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A5BAE-8850-4A7F-8B70-55FEC9A9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148DA-EC22-4552-BC03-1F301160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54C03-2B66-402F-9424-7A8E7F8B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F820D-567B-4B96-9637-DA76F6E1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376A9-3772-4AB2-B79D-1BFE7E5F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3C997-2A91-4305-995B-4E065814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35250-8E9D-4661-AA73-92DC20EEC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8A527-F4B1-4A2E-9F7A-239EACAC6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EC5338-1B05-4A38-A7A9-A4563A5B0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A8E2AC-55C0-4858-9D50-83D78DC4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3F0D37-1835-422E-9E16-C4BEBCE8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6C6316-02A2-4186-A4B1-EDF24B65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6A4C41-001C-4A77-ADAC-31ED70A57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7957FA-2511-4176-9A7E-A05B356E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B76A61-45B3-4083-A60B-53EA416A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9773A7-95E3-4712-9728-3040B716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73C557-45BD-4CE4-8238-832C9237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1C5236-1630-48BE-8696-17B08B11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687AE9-8750-4725-A56C-CB05F4B5C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CB5C3-C7B4-45B6-BA63-47151CF3D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CA19-30DA-4D7D-8AFF-A546F5FEA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26B6-7DFD-4DF3-BE08-88D5F0C5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E4FF-977C-47F1-85F2-57EE10D2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36E8-F24E-4696-BA45-57E029A5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980A-E4CF-4482-ACBF-0A18497D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3D5C-8B3F-4F3E-8545-F6141AA9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7D59-2475-470F-84EC-D4653583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B3CC-B0C9-45ED-A324-BBF6AF98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D5B1-122B-42B7-A2E3-099887E1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D583-CB70-4072-A8D8-8B8F0692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0A67-D9CB-48CC-8903-C338EC084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B15D-53B4-46DC-908A-7ABE2B2DC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8A4D1-B40D-4B62-83CD-3CD832CE1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ABCE-959E-4369-96CF-74B0F24B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2D598-FF0A-463B-B6C4-1B5D93C4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9EEF4-1AAD-4F2C-9F9A-7561D7F49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FDFC1-9CEC-4591-BCF5-F1FF8D99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2BB31-1E79-405B-99DB-29B6F0EE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24CA0-A3C1-4BD7-B9B0-584DA5F3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9666B-7673-4D85-892A-6CDD93ED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37293-CD44-4FC3-99A8-9C24D255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2291D-3097-4BB9-802D-B1E123E9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1B1A2-7C47-4567-BA3F-D1CE601D9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24004-1541-4525-B309-A5B8D2B59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E7B09-3CE0-411B-A45E-AB2B3DBFC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9CDDA-2B76-4021-941F-9BA9DBF2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FD902-533C-4101-AB6C-4FB4FD7D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087D4-9866-40DF-9170-080944D9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47729-3794-477F-B071-93C605F2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4587D-BCB5-4108-B23B-145D1246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806C9-ABF6-4DE3-A286-404BF593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553C0-A4E4-455F-896D-5B8146AC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968E5-D88A-41CF-9995-B97E45EA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7A9BD-5E24-4211-BCAF-BAC15B6B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3B811-29B9-4EC0-B2DE-7A6731B8A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2A2E6-8F58-4E30-BBAF-F4075C256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E3E25-789C-4A33-98A8-C915DC45C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A82BC-AA60-4D21-9211-EDD62AB6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1887B-E985-415B-9D0F-91C1738A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041FE-E251-4A0F-B40B-00A1DF33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BC6B8-DC21-4828-BCF8-713CD9FF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97508-7B9B-4D4B-91A8-635360E5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A136C-D705-4D98-8678-18664692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5C06C-834A-4D3F-BD6D-9104A02E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97752-E781-4187-927B-D3D31B40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F08D0-F1B6-4FC1-B0FC-80F1F710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17AB8-602E-4DD7-B225-0BC0D0BC0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F3ED8-0B40-41B4-8666-213CBF1E1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2A55A-2215-433D-8139-690F952C5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ABCF2-FF22-43DE-8454-5CBCB113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BA22F-B4A8-43ED-A3A9-E26EEEFE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65CC7-941F-4B23-8E2F-70BD27F8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4E3F2-8FF9-45B9-AB5C-EFAF2B33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3DF67-473A-4860-9BD7-07F526E4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3D020-12E6-4C97-81CF-D1ACBF17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629C5-DF78-4831-92F1-5D5C034B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A5F1D-31F7-4167-86D4-5108A9E5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A8C2B-C9D7-48B7-A772-488C473B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0F2BE-A63A-4365-8008-6159774D5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3C509-5FBB-41C1-9824-BE5AE7ACA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ED559-C105-4AEB-904E-16DF27CFB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24452-FC6D-4C39-B757-7504AAFE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7459A-79FE-4E98-A3E4-4AFF1EB1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AFBBD-0031-4812-AF5C-8F0E3A058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E1886-87E3-4888-8B26-06C2A1D4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01F88-EE27-48E0-8752-AC77861E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8E60C-75BB-463F-BD7B-41A749D0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F5EF1-7DC8-4FEF-A62D-F37661AB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4637C-280E-4413-BAEB-D9E1360B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67AC3-A690-452D-8F46-10BB989C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DC634-98CC-4F98-BE37-D166D35B6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6E87E-BEEF-4F84-A948-53768741A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62CC3-26A4-4906-8917-2FBE4A1F9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45138-3A67-4151-B83D-DC04570E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F1EC0-8B1B-4031-9D05-3E377F9F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EFF5C-3BCE-42D2-9D96-1EBAC9CC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29600-7600-48F3-B24A-25912F6B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31AFB-225D-483E-B846-DF4750C9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DFF42-3F59-48DA-A733-618A6B0A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FB476-4127-4D3F-AF52-5409F0C2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0737C-A35B-4EAA-9AE2-BB03DC68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BE6DC-F017-4AA4-B80E-ECAE63F9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EC9FA-E7DA-417D-AEDD-7C2949CFA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964AF-00DA-4C32-83C5-DE0DA4A0D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67233-83B4-4D56-8FDF-288A94223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27C98-A9F0-4FDD-87D3-1FC7878F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8CF42-7EFA-46EB-9A1F-1B748985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mainslidecover.jpg"/>
          <p:cNvPicPr/>
          <p:nvPr/>
        </p:nvPicPr>
        <p:blipFill>
          <a:blip r:embed="rId2"/>
          <a:srcRect l="0" t="0" r="5730" b="0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7" descr="mainslidecover.jpg"/>
          <p:cNvPicPr/>
          <p:nvPr/>
        </p:nvPicPr>
        <p:blipFill>
          <a:blip r:embed="rId2"/>
          <a:srcRect l="0" t="0" r="5730" b="0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3940-7718-42FC-ADF9-208E71383732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7" descr="mainslidecover.jpg"/>
          <p:cNvPicPr/>
          <p:nvPr/>
        </p:nvPicPr>
        <p:blipFill>
          <a:blip r:embed="rId2"/>
          <a:srcRect l="0" t="0" r="5730" b="0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AC3F-75C4-4CF3-BE64-D7194258E83C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mainslidecover.jpg"/>
          <p:cNvPicPr/>
          <p:nvPr/>
        </p:nvPicPr>
        <p:blipFill>
          <a:blip r:embed="rId2"/>
          <a:srcRect l="0" t="0" r="5730" b="0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252B2-1C74-4E23-9086-F3AC574A2C5A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7" descr="mainslidecover.jpg"/>
          <p:cNvPicPr/>
          <p:nvPr/>
        </p:nvPicPr>
        <p:blipFill>
          <a:blip r:embed="rId2"/>
          <a:srcRect l="0" t="0" r="5730" b="0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0C84-44E5-4274-96DE-335506DFC051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7" descr="mainslidecover.jpg"/>
          <p:cNvPicPr/>
          <p:nvPr/>
        </p:nvPicPr>
        <p:blipFill>
          <a:blip r:embed="rId2"/>
          <a:srcRect l="0" t="0" r="5730" b="0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191C-2B0A-4206-B5E4-777763EFFFA6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7" descr="mainslidecover.jpg"/>
          <p:cNvPicPr/>
          <p:nvPr/>
        </p:nvPicPr>
        <p:blipFill>
          <a:blip r:embed="rId2"/>
          <a:srcRect l="0" t="0" r="5730" b="0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AD2F-5B7E-44E8-82F4-ED6159185857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7" descr="mainslidecover.jpg"/>
          <p:cNvPicPr/>
          <p:nvPr/>
        </p:nvPicPr>
        <p:blipFill>
          <a:blip r:embed="rId2"/>
          <a:srcRect l="0" t="0" r="5730" b="0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CB54-DCDF-4358-8F8B-149EB3E666A8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7" descr="mainslidecover.jpg"/>
          <p:cNvPicPr/>
          <p:nvPr/>
        </p:nvPicPr>
        <p:blipFill>
          <a:blip r:embed="rId2"/>
          <a:srcRect l="0" t="0" r="5730" b="0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D84C-81A6-4D12-9707-6D0894D622DC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7" descr="mainslidecover.jpg"/>
          <p:cNvPicPr/>
          <p:nvPr/>
        </p:nvPicPr>
        <p:blipFill>
          <a:blip r:embed="rId2"/>
          <a:srcRect l="0" t="0" r="5730" b="0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FC8D3-1865-4ED6-A018-1CFDB3EB2E6E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9" descr="\\RORY-PC\Rory Projects\RB1405 Eden Branding Guidelines\Links\Kerry Stamper 1.jpg"/>
          <p:cNvPicPr/>
          <p:nvPr/>
        </p:nvPicPr>
        <p:blipFill>
          <a:blip r:embed="rId1"/>
          <a:stretch/>
        </p:blipFill>
        <p:spPr>
          <a:xfrm>
            <a:off x="0" y="1828800"/>
            <a:ext cx="2130480" cy="32004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0" descr="\\RORY-PC\Rory Projects\RB1405 Eden Branding Guidelines\Links\PenrithSportsCentre1.jpg"/>
          <p:cNvPicPr/>
          <p:nvPr/>
        </p:nvPicPr>
        <p:blipFill>
          <a:blip r:embed="rId2"/>
          <a:stretch/>
        </p:blipFill>
        <p:spPr>
          <a:xfrm>
            <a:off x="2133720" y="1828800"/>
            <a:ext cx="5379840" cy="32259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1" descr="C:\Users\Rory\Desktop\Localheroesphoto.jpg"/>
          <p:cNvPicPr/>
          <p:nvPr/>
        </p:nvPicPr>
        <p:blipFill>
          <a:blip r:embed="rId3"/>
          <a:stretch/>
        </p:blipFill>
        <p:spPr>
          <a:xfrm>
            <a:off x="6445080" y="1905120"/>
            <a:ext cx="2698920" cy="32256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7" descr="\\RORY-PC\Rory Projects\RB1405 Eden Branding Guidelines\Links\Eden White Wave thin 2.eps"/>
          <p:cNvPicPr/>
          <p:nvPr/>
        </p:nvPicPr>
        <p:blipFill>
          <a:blip r:embed="rId4"/>
          <a:stretch/>
        </p:blipFill>
        <p:spPr>
          <a:xfrm>
            <a:off x="0" y="4343400"/>
            <a:ext cx="9169560" cy="8431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5" descr="\\RORY-PC\Rory Projects\RB1405 Eden Branding Guidelines\Links\Eden White Wave thin.eps"/>
          <p:cNvPicPr/>
          <p:nvPr/>
        </p:nvPicPr>
        <p:blipFill>
          <a:blip r:embed="rId5"/>
          <a:stretch/>
        </p:blipFill>
        <p:spPr>
          <a:xfrm>
            <a:off x="0" y="144792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02" name="TextBox 12"/>
          <p:cNvSpPr/>
          <p:nvPr/>
        </p:nvSpPr>
        <p:spPr>
          <a:xfrm>
            <a:off x="0" y="1143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cabce"/>
                </a:solidFill>
                <a:latin typeface="Arial"/>
              </a:rPr>
              <a:t>       </a:t>
            </a:r>
            <a:r>
              <a:rPr b="1" lang="en-GB" sz="2000" spc="-1" strike="noStrike">
                <a:solidFill>
                  <a:srgbClr val="4cabce"/>
                </a:solidFill>
                <a:latin typeface="Arial"/>
              </a:rPr>
              <a:t>Alston </a:t>
            </a:r>
            <a:r>
              <a:rPr b="1" lang="en-GB" sz="2000" spc="-1" strike="noStrike">
                <a:solidFill>
                  <a:srgbClr val="4cabce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4cabce"/>
                </a:solidFill>
                <a:latin typeface="Arial"/>
              </a:rPr>
              <a:t>       Appleby</a:t>
            </a:r>
            <a:r>
              <a:rPr b="1" lang="en-GB" sz="2000" spc="-1" strike="noStrike">
                <a:solidFill>
                  <a:srgbClr val="4cabce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4cabce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4cabce"/>
                </a:solidFill>
                <a:latin typeface="Arial"/>
              </a:rPr>
              <a:t> Kirkby Stephen</a:t>
            </a:r>
            <a:r>
              <a:rPr b="1" lang="en-GB" sz="2000" spc="-1" strike="noStrike">
                <a:solidFill>
                  <a:srgbClr val="4cabce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4cabce"/>
                </a:solidFill>
                <a:latin typeface="Arial"/>
              </a:rPr>
              <a:t>   Penr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2000160" y="6357960"/>
            <a:ext cx="2357640" cy="500040"/>
          </a:xfrm>
          <a:prstGeom prst="rect">
            <a:avLst/>
          </a:prstGeom>
          <a:solidFill>
            <a:srgbClr val="4cab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6"/>
          <p:cNvSpPr/>
          <p:nvPr/>
        </p:nvSpPr>
        <p:spPr>
          <a:xfrm>
            <a:off x="5643720" y="542916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cabce"/>
                </a:solidFill>
                <a:latin typeface="Arial"/>
              </a:rPr>
              <a:t>www.eden.gov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1600200" y="1000080"/>
            <a:ext cx="790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cabce"/>
                </a:solidFill>
                <a:latin typeface="Arial"/>
              </a:rPr>
              <a:t>Young Peo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3"/>
          <p:cNvSpPr/>
          <p:nvPr/>
        </p:nvSpPr>
        <p:spPr>
          <a:xfrm>
            <a:off x="1676520" y="1857240"/>
            <a:ext cx="746748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Key target group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Future voters…. and Councillors and Officer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Key service users (non-user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Right to be hear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1600200" y="1000080"/>
            <a:ext cx="790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cabce"/>
                </a:solidFill>
                <a:latin typeface="Arial"/>
              </a:rPr>
              <a:t>Consul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1676520" y="1928880"/>
            <a:ext cx="746748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25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Traditional methods either excluded or ignor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Need to engage via their ‘media of choice’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Increase involvement in shaping servic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Support for new media projec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1600200" y="1000080"/>
            <a:ext cx="790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cabce"/>
                </a:solidFill>
                <a:latin typeface="Arial"/>
              </a:rPr>
              <a:t>What If We Don’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3"/>
          <p:cNvSpPr/>
          <p:nvPr/>
        </p:nvSpPr>
        <p:spPr>
          <a:xfrm>
            <a:off x="1676520" y="1857240"/>
            <a:ext cx="746748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More disengagement from public servic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Poorer services for young people and …….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Increase in problems with young peop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And we could end up with……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"/>
          <p:cNvPicPr/>
          <p:nvPr/>
        </p:nvPicPr>
        <p:blipFill>
          <a:blip r:embed="rId1"/>
          <a:stretch/>
        </p:blipFill>
        <p:spPr>
          <a:xfrm>
            <a:off x="2262240" y="1285920"/>
            <a:ext cx="548784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785880" y="2143080"/>
            <a:ext cx="79009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cabce"/>
                </a:solidFill>
                <a:latin typeface="Arial"/>
              </a:rPr>
              <a:t>Kevin Douglas</a:t>
            </a:r>
            <a:br>
              <a:rPr sz="3200"/>
            </a:br>
            <a:r>
              <a:rPr b="1" lang="en-GB" sz="3200" spc="-1" strike="noStrike">
                <a:solidFill>
                  <a:srgbClr val="4cabce"/>
                </a:solidFill>
                <a:latin typeface="Arial"/>
              </a:rPr>
              <a:t>Chief Execu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cabce"/>
                </a:solidFill>
                <a:latin typeface="Arial"/>
              </a:rPr>
              <a:t>Eden District Counc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642960" y="1000080"/>
            <a:ext cx="79009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cabce"/>
                </a:solidFill>
                <a:latin typeface="Arial"/>
              </a:rPr>
              <a:t>Why Engag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"/>
          <p:cNvPicPr/>
          <p:nvPr/>
        </p:nvPicPr>
        <p:blipFill>
          <a:blip r:embed="rId1"/>
          <a:stretch/>
        </p:blipFill>
        <p:spPr>
          <a:xfrm>
            <a:off x="3643200" y="1000080"/>
            <a:ext cx="485784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2"/>
          <p:cNvSpPr/>
          <p:nvPr/>
        </p:nvSpPr>
        <p:spPr>
          <a:xfrm>
            <a:off x="1600200" y="1000080"/>
            <a:ext cx="790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cabce"/>
                </a:solidFill>
                <a:latin typeface="Arial"/>
              </a:rPr>
              <a:t>Engage Ed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3"/>
          <p:cNvSpPr/>
          <p:nvPr/>
        </p:nvSpPr>
        <p:spPr>
          <a:xfrm>
            <a:off x="1676520" y="2143080"/>
            <a:ext cx="746748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720" indent="-2160720">
              <a:spcBef>
                <a:spcPts val="4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Vision: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Best Serve the People of Ed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60720" indent="-2160720">
              <a:spcBef>
                <a:spcPts val="4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60720" indent="-2160720">
              <a:spcBef>
                <a:spcPts val="4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Corporate Priority: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Quality Council – ensures services are accessible, meet needs of customers and are seeking improve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60720" indent="-2160720">
              <a:spcBef>
                <a:spcPts val="4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60720" indent="-2160720">
              <a:spcBef>
                <a:spcPts val="4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Key Action: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Focus on customers and communic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1600200" y="1457280"/>
            <a:ext cx="716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26977"/>
                </a:solidFill>
                <a:latin typeface="Arial"/>
              </a:rPr>
              <a:t>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1600200" y="1000080"/>
            <a:ext cx="790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cabce"/>
                </a:solidFill>
                <a:latin typeface="Arial"/>
              </a:rPr>
              <a:t>Baseline (200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1676520" y="1714680"/>
            <a:ext cx="7467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25"/>
              </a:spcBef>
              <a:tabLst>
                <a:tab algn="l" pos="0"/>
                <a:tab algn="r" pos="547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Overall  Satisfaction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51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r" pos="547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r" pos="547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Satisfaction with Council Services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64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r" pos="547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r" pos="547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Well Informed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55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r" pos="547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r" pos="547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Value for Money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r" pos="547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r" pos="547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But…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2"/>
          <p:cNvSpPr/>
          <p:nvPr/>
        </p:nvSpPr>
        <p:spPr>
          <a:xfrm>
            <a:off x="1600200" y="1000080"/>
            <a:ext cx="790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cabce"/>
                </a:solidFill>
                <a:latin typeface="Arial"/>
              </a:rPr>
              <a:t>Survey Sam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3"/>
          <p:cNvSpPr/>
          <p:nvPr/>
        </p:nvSpPr>
        <p:spPr>
          <a:xfrm>
            <a:off x="1676520" y="2143080"/>
            <a:ext cx="746748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Sample is taken on 18+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18-24% return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55-65+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39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1600200" y="1000080"/>
            <a:ext cx="790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cabce"/>
                </a:solidFill>
                <a:latin typeface="Arial"/>
              </a:rPr>
              <a:t>Engage Ed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1676520" y="1714680"/>
            <a:ext cx="746748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Council wide project to respond to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Legisl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Broaden base of involvement – not just usual aspe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Identify needs of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customer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Improve servic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2"/>
          <p:cNvSpPr/>
          <p:nvPr/>
        </p:nvSpPr>
        <p:spPr>
          <a:xfrm>
            <a:off x="1600200" y="1000080"/>
            <a:ext cx="790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cabce"/>
                </a:solidFill>
                <a:latin typeface="Arial"/>
              </a:rPr>
              <a:t>Engage Eden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1676520" y="1785960"/>
            <a:ext cx="746748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Four strand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Local Strategic Partnership – Partner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Overview and Scrutiny – Members/Publi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Consultation – Publi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Locality – Geographical are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Link to County Counci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6:52:55Z</dcterms:created>
  <dc:creator>barryc</dc:creator>
  <dc:description/>
  <dc:language>en-US</dc:language>
  <cp:lastModifiedBy>Administrator</cp:lastModifiedBy>
  <dcterms:modified xsi:type="dcterms:W3CDTF">2009-06-26T13:03:19Z</dcterms:modified>
  <cp:revision>110</cp:revision>
  <dc:subject/>
  <dc:title>Slide 1</dc:title>
</cp:coreProperties>
</file>